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79C3-DE67-475B-BC7B-D530F0DB1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DD96-6858-4FBD-BACD-F1DEC83C8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9F6A-2CEC-434F-8890-C51541C69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5B6E-D3C8-4A49-8E8C-2EB92F75C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7E03-BF95-4305-BD56-A11877B62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4BE5-57AD-42D6-8D9C-7BF4EE780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907-597E-40E3-A3E8-A0F765001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DC2EF-548D-4946-BA5F-2F501CFCA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4988A-A4E6-422B-8C8A-24788C5A7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DA746-0BFC-4C5F-BFF3-7F2FDC289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A82FF-F316-42C8-B470-CEBDE9780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715D-285A-41FB-9223-524400870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2A54-B455-48FD-A18C-BFBB52C2F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9ED3-F385-41DA-8DF8-871119F4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3B28-24D8-4F6E-891C-A43AF2FAD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2158B-0BCE-4AD3-B7DB-659C2481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6D75-8783-4815-A711-B275766C9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9E4AA-FCDB-48FD-BAAB-5ABE968E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2355-78C0-4284-B9B9-748B1ADD9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6587-85A4-4791-88F3-2EEFF4FC0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olumes and Temperature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lex, Rachel, Danae, and Ju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ed together.</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ld temperature is the larger volume then when both temperatures are mixed together the total temperature will be coo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 volume of water and temperature of water</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 temperature’s equilibrium</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same hot plate and same temperature sensor</a:t>
            </a:r>
            <a:endParaRPr b="0" lang="en-US" sz="3200" spc="-1" strike="noStrike">
              <a:solidFill>
                <a:srgbClr val="000000"/>
              </a:solidFill>
              <a:latin typeface="Calibri"/>
            </a:endParaRPr>
          </a:p>
        </p:txBody>
      </p:sp>
      <p:graphicFrame>
        <p:nvGraphicFramePr>
          <p:cNvPr id="56" name=""/>
          <p:cNvGraphicFramePr/>
          <p:nvPr/>
        </p:nvGraphicFramePr>
        <p:xfrm>
          <a:off x="533520" y="2209680"/>
          <a:ext cx="8229600" cy="1752840"/>
        </p:xfrm>
        <a:graphic>
          <a:graphicData uri="http://schemas.openxmlformats.org/drawingml/2006/table">
            <a:tbl>
              <a:tblPr/>
              <a:tblGrid>
                <a:gridCol w="1371600"/>
                <a:gridCol w="1371600"/>
                <a:gridCol w="1371600"/>
                <a:gridCol w="1371600"/>
                <a:gridCol w="1371600"/>
                <a:gridCol w="13716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50mL of hot + 100mL of col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00mL hot + 50mL of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 up hot water in a hotpot and also need ice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ur the correct volume for that specific trial for both temperatur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he temperature of the two different volumes and tempera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combine both temperatures togethe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he temperature of the mixed wa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sp>
        <p:nvSpPr>
          <p:cNvPr id="60" name="Flowchart: Magnetic Disk 3"/>
          <p:cNvSpPr/>
          <p:nvPr/>
        </p:nvSpPr>
        <p:spPr>
          <a:xfrm>
            <a:off x="1219320" y="2590920"/>
            <a:ext cx="1828800" cy="304776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lowchart: Magnetic Disk 4"/>
          <p:cNvSpPr/>
          <p:nvPr/>
        </p:nvSpPr>
        <p:spPr>
          <a:xfrm>
            <a:off x="5562720" y="2438280"/>
            <a:ext cx="1828800" cy="32004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traight Connector 6"/>
          <p:cNvSpPr/>
          <p:nvPr/>
        </p:nvSpPr>
        <p:spPr>
          <a:xfrm>
            <a:off x="1219320" y="4572000"/>
            <a:ext cx="1828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1"/>
          <p:cNvSpPr/>
          <p:nvPr/>
        </p:nvSpPr>
        <p:spPr>
          <a:xfrm>
            <a:off x="5562720" y="3886200"/>
            <a:ext cx="1828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13"/>
          <p:cNvSpPr/>
          <p:nvPr/>
        </p:nvSpPr>
        <p:spPr>
          <a:xfrm>
            <a:off x="1752480" y="1523880"/>
            <a:ext cx="30492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traight Connector 15"/>
          <p:cNvSpPr/>
          <p:nvPr/>
        </p:nvSpPr>
        <p:spPr>
          <a:xfrm>
            <a:off x="1905120" y="228600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17"/>
          <p:cNvSpPr/>
          <p:nvPr/>
        </p:nvSpPr>
        <p:spPr>
          <a:xfrm>
            <a:off x="3657600" y="1752480"/>
            <a:ext cx="129528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owchart: Data 18"/>
          <p:cNvSpPr/>
          <p:nvPr/>
        </p:nvSpPr>
        <p:spPr>
          <a:xfrm>
            <a:off x="3352680" y="2743200"/>
            <a:ext cx="1600200" cy="838080"/>
          </a:xfrm>
          <a:prstGeom prst="flowChartInputOutpu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ounded Rectangle 20"/>
          <p:cNvSpPr/>
          <p:nvPr/>
        </p:nvSpPr>
        <p:spPr>
          <a:xfrm>
            <a:off x="3809880" y="1981080"/>
            <a:ext cx="990720" cy="609840"/>
          </a:xfrm>
          <a:prstGeom prst="roundRect">
            <a:avLst>
              <a:gd name="adj" fmla="val 16667"/>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1"/>
          <p:cNvSpPr/>
          <p:nvPr/>
        </p:nvSpPr>
        <p:spPr>
          <a:xfrm>
            <a:off x="2011320" y="1496880"/>
            <a:ext cx="1554120" cy="1568520"/>
          </a:xfrm>
          <a:custGeom>
            <a:avLst/>
            <a:gdLst/>
            <a:ahLst/>
            <a:rect l="l" t="t" r="r" b="b"/>
            <a:pathLst>
              <a:path w="1554480" h="1568320">
                <a:moveTo>
                  <a:pt x="0" y="45720"/>
                </a:moveTo>
                <a:cubicBezTo>
                  <a:pt x="69097" y="28446"/>
                  <a:pt x="30817" y="39258"/>
                  <a:pt x="114300" y="11430"/>
                </a:cubicBezTo>
                <a:lnTo>
                  <a:pt x="148590" y="0"/>
                </a:lnTo>
                <a:cubicBezTo>
                  <a:pt x="163830" y="3810"/>
                  <a:pt x="180259" y="4405"/>
                  <a:pt x="194310" y="11430"/>
                </a:cubicBezTo>
                <a:cubicBezTo>
                  <a:pt x="351520" y="90035"/>
                  <a:pt x="202355" y="36972"/>
                  <a:pt x="297180" y="68580"/>
                </a:cubicBezTo>
                <a:cubicBezTo>
                  <a:pt x="348305" y="145268"/>
                  <a:pt x="288079" y="70133"/>
                  <a:pt x="354330" y="114300"/>
                </a:cubicBezTo>
                <a:cubicBezTo>
                  <a:pt x="367780" y="123266"/>
                  <a:pt x="375466" y="139195"/>
                  <a:pt x="388620" y="148590"/>
                </a:cubicBezTo>
                <a:cubicBezTo>
                  <a:pt x="402485" y="158494"/>
                  <a:pt x="420475" y="161546"/>
                  <a:pt x="434340" y="171450"/>
                </a:cubicBezTo>
                <a:cubicBezTo>
                  <a:pt x="447494" y="180845"/>
                  <a:pt x="455871" y="195816"/>
                  <a:pt x="468630" y="205740"/>
                </a:cubicBezTo>
                <a:cubicBezTo>
                  <a:pt x="490317" y="222608"/>
                  <a:pt x="517783" y="232033"/>
                  <a:pt x="537210" y="251460"/>
                </a:cubicBezTo>
                <a:cubicBezTo>
                  <a:pt x="548640" y="262890"/>
                  <a:pt x="561152" y="273332"/>
                  <a:pt x="571500" y="285750"/>
                </a:cubicBezTo>
                <a:cubicBezTo>
                  <a:pt x="580294" y="296303"/>
                  <a:pt x="584646" y="310326"/>
                  <a:pt x="594360" y="320040"/>
                </a:cubicBezTo>
                <a:cubicBezTo>
                  <a:pt x="604074" y="329754"/>
                  <a:pt x="618097" y="334106"/>
                  <a:pt x="628650" y="342900"/>
                </a:cubicBezTo>
                <a:cubicBezTo>
                  <a:pt x="683293" y="388436"/>
                  <a:pt x="644932" y="362438"/>
                  <a:pt x="685800" y="411480"/>
                </a:cubicBezTo>
                <a:cubicBezTo>
                  <a:pt x="696148" y="423898"/>
                  <a:pt x="709742" y="433352"/>
                  <a:pt x="720090" y="445770"/>
                </a:cubicBezTo>
                <a:cubicBezTo>
                  <a:pt x="770832" y="506660"/>
                  <a:pt x="720013" y="452490"/>
                  <a:pt x="754380" y="514350"/>
                </a:cubicBezTo>
                <a:cubicBezTo>
                  <a:pt x="767723" y="538367"/>
                  <a:pt x="784860" y="560070"/>
                  <a:pt x="800100" y="582930"/>
                </a:cubicBezTo>
                <a:cubicBezTo>
                  <a:pt x="807720" y="594360"/>
                  <a:pt x="811530" y="609600"/>
                  <a:pt x="822960" y="617220"/>
                </a:cubicBezTo>
                <a:cubicBezTo>
                  <a:pt x="850302" y="635448"/>
                  <a:pt x="871538" y="646368"/>
                  <a:pt x="891540" y="674370"/>
                </a:cubicBezTo>
                <a:cubicBezTo>
                  <a:pt x="901444" y="688235"/>
                  <a:pt x="903756" y="706785"/>
                  <a:pt x="914400" y="720090"/>
                </a:cubicBezTo>
                <a:cubicBezTo>
                  <a:pt x="934596" y="745335"/>
                  <a:pt x="965047" y="761771"/>
                  <a:pt x="982980" y="788670"/>
                </a:cubicBezTo>
                <a:cubicBezTo>
                  <a:pt x="990600" y="800100"/>
                  <a:pt x="995502" y="813914"/>
                  <a:pt x="1005840" y="822960"/>
                </a:cubicBezTo>
                <a:cubicBezTo>
                  <a:pt x="1026517" y="841052"/>
                  <a:pt x="1054993" y="849253"/>
                  <a:pt x="1074420" y="868680"/>
                </a:cubicBezTo>
                <a:cubicBezTo>
                  <a:pt x="1085850" y="880110"/>
                  <a:pt x="1095951" y="893046"/>
                  <a:pt x="1108710" y="902970"/>
                </a:cubicBezTo>
                <a:cubicBezTo>
                  <a:pt x="1130397" y="919838"/>
                  <a:pt x="1154430" y="933450"/>
                  <a:pt x="1177290" y="948690"/>
                </a:cubicBezTo>
                <a:lnTo>
                  <a:pt x="1211580" y="971550"/>
                </a:lnTo>
                <a:cubicBezTo>
                  <a:pt x="1219200" y="982980"/>
                  <a:pt x="1228861" y="993287"/>
                  <a:pt x="1234440" y="1005840"/>
                </a:cubicBezTo>
                <a:cubicBezTo>
                  <a:pt x="1244227" y="1027860"/>
                  <a:pt x="1257300" y="1074420"/>
                  <a:pt x="1257300" y="1074420"/>
                </a:cubicBezTo>
                <a:cubicBezTo>
                  <a:pt x="1261110" y="1108710"/>
                  <a:pt x="1266181" y="1142883"/>
                  <a:pt x="1268730" y="1177290"/>
                </a:cubicBezTo>
                <a:cubicBezTo>
                  <a:pt x="1273804" y="1245788"/>
                  <a:pt x="1271641" y="1314875"/>
                  <a:pt x="1280160" y="1383030"/>
                </a:cubicBezTo>
                <a:cubicBezTo>
                  <a:pt x="1283149" y="1406940"/>
                  <a:pt x="1285981" y="1434571"/>
                  <a:pt x="1303020" y="1451610"/>
                </a:cubicBezTo>
                <a:cubicBezTo>
                  <a:pt x="1325880" y="1474470"/>
                  <a:pt x="1340236" y="1512349"/>
                  <a:pt x="1371600" y="1520190"/>
                </a:cubicBezTo>
                <a:cubicBezTo>
                  <a:pt x="1402080" y="1527810"/>
                  <a:pt x="1433234" y="1533115"/>
                  <a:pt x="1463040" y="1543050"/>
                </a:cubicBezTo>
                <a:cubicBezTo>
                  <a:pt x="1538849" y="1568320"/>
                  <a:pt x="1507523" y="1565910"/>
                  <a:pt x="1554480" y="156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graphicFrame>
        <p:nvGraphicFramePr>
          <p:cNvPr id="71" name=""/>
          <p:cNvGraphicFramePr/>
          <p:nvPr/>
        </p:nvGraphicFramePr>
        <p:xfrm>
          <a:off x="457200" y="1600200"/>
          <a:ext cx="8229600" cy="309888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mperature of cold water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mperature of hot water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xed temperatur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verag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mL of hot+ 100mL of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mL of cold + 100mL of h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mperature of water when two different volumes with two different temperatures are combine become in between both temper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Owner</cp:lastModifiedBy>
  <dcterms:modified xsi:type="dcterms:W3CDTF">2010-12-14T02:18:18Z</dcterms:modified>
  <cp:revision>25</cp:revision>
  <dc:subject/>
  <dc:title>Title:</dc:title>
</cp:coreProperties>
</file>